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D17E-0B4D-41BF-8645-A97D15509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2F18-EEDF-41DB-8011-90AF9B52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2EA7-F2D1-4C26-AD4C-65F745C7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6D9A-6DB8-4D4A-9907-CF8EF57FB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BC90-BBA9-486F-AAA3-D4B4ACE4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9B13-94C2-4F89-A9D7-9FF1C42F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C922-E685-4921-9684-4C72AD5A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869A-B515-485D-AE52-C0BAD8D0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B456-5CC4-4A39-B565-8086CEE4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DEC8-1B19-4086-818F-AFDB4BD7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604D-DB78-487D-991B-9676FFF1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D89E-AE69-4D8C-B661-1F7B997B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DE08-E33D-4E53-B1F5-404B183E9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03280" y="1989000"/>
            <a:ext cx="6913800" cy="208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iltri d'amore 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33cc"/>
                </a:solidFill>
                <a:latin typeface="Arial"/>
              </a:rPr>
              <a:t>Nelle favole c'è un filtro magico che ti fa addormentare. Ti svegli e ti innamori della prima persona che vedi. È la più geniale metafora dell'amore che sia stata concepita. L'amore è cieco, inspiegabile e crudele. Ed è anche precario. Nulla di così insensato può mai durare a lungo. </a:t>
            </a:r>
            <a:r>
              <a:rPr b="1" i="1" lang="it-IT" sz="3200" spc="-1" strike="noStrike">
                <a:solidFill>
                  <a:srgbClr val="ff33cc"/>
                </a:solidFill>
                <a:latin typeface="Arial"/>
              </a:rPr>
              <a:t>(Acqua di mare di Charles Simmons)</a:t>
            </a:r>
            <a:r>
              <a:rPr b="0" lang="it-IT" sz="32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Gli antichi per sedurre un uomo o una donna erano soliti ricorrere a stratagemmi vari quali sacrifici alle divinità, ai famigerati 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ff0000"/>
                </a:solidFill>
                <a:latin typeface="Arial"/>
              </a:rPr>
              <a:t>Amatoria pocula</a:t>
            </a:r>
            <a:r>
              <a:rPr b="0" i="1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ll’antica Roma erano filtri d’amore considerati potenti veleni e il loro utilizzo malefico era già vietato nelle antiche leggi delle XII tavole (V secolo a. C.)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5111640" cy="3456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651640" y="1341360"/>
            <a:ext cx="2751120" cy="4967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4360" y="4149720"/>
            <a:ext cx="3887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e nuzia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08720" y="620640"/>
            <a:ext cx="32400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nere di mil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’imperatore Caligola impazzì a causa di un filtro d’amore somministratogli dalla moglie Ceso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poeta Lucrezio, autore dell’opera filosofica "De rerum natura", si pensa fosse stato vittima di un potente filtro d’amo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o Lucrezio Ca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filtro d’amore è una della più antiche forme di magia attestate nel mondo ant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ia che agiva soprattutto attraverso le componenti del filtro, che miravano a legare chi lo beveva alla persona  che lo invi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208908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stano e Isot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597564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EO E GIULIET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191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400" spc="-1" strike="noStrike">
                <a:solidFill>
                  <a:srgbClr val="000000"/>
                </a:solidFill>
                <a:latin typeface="Arial"/>
              </a:rPr>
              <a:t>A Midsummer Night's Dream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812808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15:45:48Z</dcterms:created>
  <dc:creator>user</dc:creator>
  <dc:description/>
  <dc:language>en-US</dc:language>
  <cp:lastModifiedBy>user</cp:lastModifiedBy>
  <dcterms:modified xsi:type="dcterms:W3CDTF">2012-05-15T17:13:14Z</dcterms:modified>
  <cp:revision>2</cp:revision>
  <dc:subject/>
  <dc:title>Diapositiva 1</dc:title>
</cp:coreProperties>
</file>